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4.jpeg" ContentType="image/jpeg"/>
  <Override PartName="/ppt/media/image10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562464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3263760" y="509400"/>
            <a:ext cx="3399120" cy="25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DFF6-26E5-4A11-8A4C-582C6EE30CCF}" type="slidenum">
              <a:rPr b="0" lang="en-Z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5E50-9649-40BA-9837-9F5B9184E4A4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6674-3A50-4B1E-9D60-7DB157B4AE84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F74B-F6DD-4072-B896-B6FE36C3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B334-5095-442C-84B8-AF31EA23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AD36-3FC9-4292-813C-1ADEDCA8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227B-0968-45E4-9B9D-4D0B262E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2994-46D2-4ABB-828B-CF7093EE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55CD-85DE-4C13-91EA-16E3CB28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28DA-1BFC-42C4-962D-E4622FE6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11F6-DCB1-4B70-9BF7-C6C94604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A694-58FB-459B-A386-4830EDA8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8ACC-4F6C-42D3-BDFD-F8AA79D9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345B-E327-4EF1-B1E9-799CC992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45F4-F6F2-4B78-8CCB-8C2CBD9C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5188-A16C-4798-B0DD-ECA97B9C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0F73-0E0D-41F5-BB39-32318E62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2210-CEF8-42BE-A062-781A70CD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39C6-C663-402B-A3E1-78C411D1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65B5-FCCD-455F-A344-0EF19767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E715E-3E38-4E32-A12A-0E6F499A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CA10B-F5F4-49A4-8B8E-964D212D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B23F5-0829-4D90-BBA9-A5441FDF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E3642-1BD7-406A-BDA8-E2DCB31C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24500-766C-4B99-9BBC-97DDB27E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37CD-588A-47D1-986D-8F8C6754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647B4-60BF-4DAF-9DFC-8038E62F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43E68-33B8-482E-A51D-BCB7BFE9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6FE98-37EB-401E-8326-CA92F4F3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045FC-9650-40EB-8A50-BE006F28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81D8F-7F5E-4746-BF96-6AFE2FA3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8925D-0DB2-45C7-AE4E-A7A5E9D9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7E6DF-49D8-418F-9584-9A7E41F7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65680-82EB-4196-A81E-B6A3DDB1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6D76C-A34E-4E57-8D56-617B9386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FC5F2-F974-4EA0-BF57-833BDEB1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8F00-D182-4A28-9147-AF30F438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BA33A-5C7D-4933-AEFF-EA9B9F74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0E75C-D99B-4A03-B5DF-53A1821A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99F6D-2567-4D31-9085-A5CF34C1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9CFFD-9F07-4C0E-A2C8-49BA1705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89D54-71AC-47C8-ADEF-5CE129F6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ED7BE-BC94-4DD8-A2CD-5CFA3DA2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9CC73-B54D-4FEB-9A92-E8C17D91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8C927-E698-4363-BE57-F50682C5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7CCD8-9E55-4AAF-B54D-0DA0D35C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FF18-FEFE-4BEA-9A6C-CEF13C6F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BE5A-FA64-4EC7-B922-95F5D78F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47D0-A5FB-466D-8B2C-3E95F1CC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A321-7293-4507-9742-2BBBC207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F8A8-FF4C-414F-8C81-93B12FC8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FD7E-9988-4467-AE51-8A270CB76174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7FDD-B9CD-49D1-AC9D-B92EB55F8086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B73A-FFB9-43B5-A524-ADB282916E98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0248-4FFD-4634-A5B8-E24E181C5F6B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2929-27D0-416D-8670-F3EE05C87B2B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E8CB-EB53-4C16-B3B6-08711541BF94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6FA3-CF96-4E3E-858F-7411D3061D07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2113-CAF0-4566-A7B2-293AAB9EACDB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1176480"/>
            <a:ext cx="26431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04617b"/>
                </a:solidFill>
                <a:latin typeface="Century Gothic"/>
              </a:rPr>
              <a:t>BEAUFORT WES MUNISIPALITEIT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KONSEP BEGRO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2021/2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9F84-0076-431C-A926-6FCC63B67D1F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der algemene uitgawes behels die volgend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B551-B3BC-4035-9609-F280425D4F4D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tarief verhogings word voorgestel vir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Belasting                                 - 5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Water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ullis                                        - 9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iool  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Elektrisiteit                               - 17.8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verse tariewe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BAB6-7AC7-4C90-AE28-3EA917CA1A0B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Groot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681 000 (R 70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3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082A-211A-40FA-9BFF-7C9EB63890D6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4CB9-0DAC-4548-AA4A-E8AB1915694A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Medium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431 000 (R 45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6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5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B2C6-37F0-4F57-B79D-13AA8477A41A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4E6F-1E67-4C18-AF18-A1AA95DA6508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457200" y="2468520"/>
            <a:ext cx="82296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Klein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11 600 (R 30 6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200 eenhe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AB6D-BB4D-4C44-BC01-BA65258ED248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1230-C432-488A-91A8-4AE2EAFF52AE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1"/>
          <a:stretch/>
        </p:blipFill>
        <p:spPr>
          <a:xfrm>
            <a:off x="457200" y="2847960"/>
            <a:ext cx="82296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`n Bedrag van R 41.07 miljoen word toegewys aan die verskaffing van gratis dienste in terme van die Raad se Deernis Beleid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aan huishoudings met ‘n inkomste vanaf R0,00 tot R1,890 beloop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50 kWh Elektrisiteit,   6 kl water per maand en 10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aan huishoudings met ‘n inkomste vanaf R1,891 tot R3,780 beloop 50 kWh Elektrisiteit,   6 kl water per maand en 7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FC4E-F09C-4219-839C-7EE5D0DDCCC1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4F2A-3A5E-468B-8710-DC62CDF8A3FD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INLEIDING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Voorgestelde Bedryfs en Kapitaal begrotings was voorberei inaggenome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munisipaliteit se GOP (IDP)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Nasionale Tesourie se voorskrifte;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Nasionale, Provinsiale en Plaaslike Ekonomiese omstandighede waaraan ons munisipaliteit blootgestel is; e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Plaaslike Ekonomiese Ontwikkel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ABEC-2784-4F74-945C-6B5B762D449A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2C7D-E684-4AB4-A2A4-D949423356B3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190E-79D6-4FD2-84CB-1F8F3106B850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1"/>
          <a:stretch/>
        </p:blipFill>
        <p:spPr>
          <a:xfrm>
            <a:off x="1547640" y="3219480"/>
            <a:ext cx="626436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entury Gothic"/>
              </a:rPr>
              <a:t>Korting toegestaan aan Pensionariss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38A6-29CD-4845-AF22-5218C2ADAF1B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Content Placeholder 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7770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176480"/>
            <a:ext cx="246240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Thank</a:t>
            </a: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 You</a:t>
            </a: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Baie Danki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entury Gothic"/>
              </a:rPr>
              <a:t>enKos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84" name="Object 2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5B41-14C3-4775-84E6-BAB051D90BB0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s was gemaak met die opstel van die begrot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beraamde VPI deur Nasionale Tesourie van 4.1% vir die 2021/22 finansiële jaar en 4.4%; 4.5% vir die daaropvolgende twee jar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Salaris aanpassing vir 2021/22 is gebasseer op TASK skale plus 4.0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erhoging in koste van grootmaat elektrisiteit aankope is 17.8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oorsiening vir oninbare skulde beloop 6.8% van alle dienste en belasting heffing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71EA-B6F0-4C84-82D9-F24D071F58C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773360"/>
            <a:ext cx="822960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Alhoewel die verwagte inflasie koers soos geprojekteer deur Nasionale Tesourie 4.1% gaan beloop vir 2021/22 sal die bedryfs uitgawes met ‘n hoër persentasie styg weens die groei in inset kos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87FC-C296-422B-A747-2292F9A7B9C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`n Kapitaal Begroting van R 23,465 miljoen word voorgestel vir 2021/22 (R 27,245miljoen &amp;  R22,523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kapitaalbegroting word as volg gefinansier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CFFE-F1DF-4C4C-9FC8-96AFD4261141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7859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is `n opsomming van die groter kapitaal projekte wat onderneem sal word gedurende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00B6-8DDB-4E60-8A2B-C427326F4607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463680" y="2692440"/>
            <a:ext cx="8140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41000"/>
            <a:ext cx="82296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verwagte inkomste vir die 2021/22 finansiële jaar beloop R 357,070 miljoen (R 383,084 miljoen en             R 381,453 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hoof inkomste bronne i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785D-5B69-4E99-88A2-E255CFD5A6AC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81471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Ander eie inkomste behels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6216-6736-45D4-BA97-0EBAF55FE9AC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684360" y="2543040"/>
            <a:ext cx="7416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geprojekteerde bedryfsuitgawe vir die 2021/22 finansiële jaar beloop R 354,392 miljoen (R 375,528 miljoen en R 375,528 miljoen vir die daaropvolgende twee jare). Die hoof uitgawe items is as vol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E51E-C8CA-4F0B-88FC-4DD0D80F925B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" descr=""/>
          <p:cNvPicPr/>
          <p:nvPr/>
        </p:nvPicPr>
        <p:blipFill>
          <a:blip r:embed="rId1"/>
          <a:stretch/>
        </p:blipFill>
        <p:spPr>
          <a:xfrm>
            <a:off x="457200" y="3219480"/>
            <a:ext cx="822960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6:53:20Z</dcterms:created>
  <dc:creator>user29</dc:creator>
  <dc:description/>
  <dc:language>en-US</dc:language>
  <cp:lastModifiedBy>HP</cp:lastModifiedBy>
  <cp:lastPrinted>2021-05-04T10:44:47Z</cp:lastPrinted>
  <dcterms:modified xsi:type="dcterms:W3CDTF">2021-05-18T10:26:48Z</dcterms:modified>
  <cp:revision>232</cp:revision>
  <dc:subject/>
  <dc:title>BEAUFORT WEST MUNICIPALITY</dc:title>
</cp:coreProperties>
</file>